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2F8234-46DB-4837-BC8F-5FD2584629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80D73-4EF8-4ACF-BEDB-14E6AC353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B727F0-B95D-4889-BE79-1320F89D27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511D26-653B-4A84-9638-E81CBDA07C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E730E6-3BDF-45ED-9749-1C600038BF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D5033E-FFB1-40CF-A2ED-FC80621B48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45946E-8BF0-4433-B6D3-05B5110CDD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14C447-2F5F-445F-9A26-345D78AE7A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311703-6A8D-42C1-A26F-540D35FAC9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7E4CDD-73B6-4458-AB2F-6F4E68B35C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17285-6945-4955-BC27-044374814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AEBA2-477E-4A74-9613-9EBDEFBD1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DB248-7C7F-4061-A014-ED8BB4E13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64935A-2066-4AB8-AB19-482778CCE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C6F347-9F68-4971-B747-014622F712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5B5E8A-82DF-495D-A8DA-1B75D4A777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F459C2-7076-42EE-AE30-8D277243D7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80086-BC16-4189-ACC2-499F867CE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E748F-7438-4F09-99AD-AEC1708BD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DFC02-7841-4037-AC54-0F4F47DFC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ABBE6-D696-4ED5-9FEE-A4FA595BD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227ED-288E-4A5C-84F4-7DE7CDDD5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35096-142C-416E-A966-A1F58EB7E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B8FF7-9D26-4F80-B0F5-1929510C5B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5869F-B5B6-4AEE-8D5E-4F7FA333489F}"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ADABA-3DB0-4C71-82FD-7FA5FD6FC44E}"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Earth Science 1111</a:t>
            </a:r>
            <a:endParaRPr b="0" lang="en-US" sz="54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ecture 1:  Overview and Atmospheric Composition and Structure</a:t>
            </a:r>
            <a:endParaRPr b="0" lang="en-US" sz="3200" spc="-1" strike="noStrike">
              <a:solidFill>
                <a:srgbClr val="ffffff"/>
              </a:solidFill>
              <a:latin typeface="Verdan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tmospheric Molecules</a:t>
            </a:r>
            <a:endParaRPr b="0" lang="en-US" sz="4400" spc="-1" strike="noStrike">
              <a:solidFill>
                <a:srgbClr val="ccec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ote that the Oxygen, Nitrogen, and Hydrogen that we breathe are not single atoms of that gas, but instead are two atoms of that gas bonded together in what is called a diatomic molecul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zone is an example of a triatomic molecule with three oxygen atoms.</a:t>
            </a:r>
            <a:endParaRPr b="0" lang="en-US" sz="3200" spc="-1" strike="noStrike">
              <a:solidFill>
                <a:srgbClr val="ffffff"/>
              </a:solidFill>
              <a:latin typeface="Verdana"/>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tmospheric Composition</a:t>
            </a:r>
            <a:endParaRPr b="0" lang="en-US" sz="44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dry air components in the air are well-mixed, meaning they do not vary widely with location or time at the surface.</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vapor (H</a:t>
            </a:r>
            <a:r>
              <a:rPr b="0" lang="en-US" sz="2800" spc="-1" strike="noStrike" baseline="-25000">
                <a:solidFill>
                  <a:srgbClr val="ffffff"/>
                </a:solidFill>
                <a:latin typeface="Verdana"/>
              </a:rPr>
              <a:t>2</a:t>
            </a:r>
            <a:r>
              <a:rPr b="0" lang="en-US" sz="2800" spc="-1" strike="noStrike">
                <a:solidFill>
                  <a:srgbClr val="ffffff"/>
                </a:solidFill>
                <a:latin typeface="Verdana"/>
              </a:rPr>
              <a:t>O) is a variable gas.  You will see it depends on temperature and the availability of liquid water.  A volume of air can have between 0% and 4% water vapor, and this varies both in time and space.</a:t>
            </a:r>
            <a:endParaRPr b="0" lang="en-US" sz="2800" spc="-1" strike="noStrike">
              <a:solidFill>
                <a:srgbClr val="ffffff"/>
              </a:solidFill>
              <a:latin typeface="Verdan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Vertical Layers of the Atmosphere</a:t>
            </a:r>
            <a:endParaRPr b="0" lang="en-US" sz="4000" spc="-1" strike="noStrike">
              <a:solidFill>
                <a:srgbClr val="ccec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Earth’s atmosphere has 4 distinct layers that are identified by the way temperature changes with height. These layers ar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Tropospher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Stratospher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Mesospher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Thermosphere</a:t>
            </a:r>
            <a:endParaRPr b="0" lang="en-US" sz="3200" spc="-1" strike="noStrike">
              <a:solidFill>
                <a:srgbClr val="ffffff"/>
              </a:solidFill>
              <a:latin typeface="Verdana"/>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roposphere</a:t>
            </a:r>
            <a:endParaRPr b="0" lang="en-US" sz="4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s is the layer closest to the Earth’s surfac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lmost all the weather phenomenon we know of occurs in this layer.</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depth of the troposphere varies by the season (deeper in summer)</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emperature on average decreases with height.</a:t>
            </a:r>
            <a:endParaRPr b="0" lang="en-US" sz="3200" spc="-1" strike="noStrike">
              <a:solidFill>
                <a:srgbClr val="ffffff"/>
              </a:solidFill>
              <a:latin typeface="Verdan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ratosphere</a:t>
            </a: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ext layer above the troposphere</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boundary between the stratosphere and troposphere is called the tropopause.</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ozone layer is found here</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ome clouds can form here near the poles</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emperature increases with height</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ery little mixing occurs between the troposphere and stratosphere.</a:t>
            </a:r>
            <a:endParaRPr b="0" lang="en-US" sz="2800" spc="-1" strike="noStrike">
              <a:solidFill>
                <a:srgbClr val="ffffff"/>
              </a:solidFill>
              <a:latin typeface="Verdana"/>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esosphere/Thermosphere</a:t>
            </a: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mesosphere is the next layer above the stratospher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ouds (noctilucent) are rare in the mesospher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thermosphere rests above the mesosphere, and no clouds exist.</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emperature decreases with height in the mesosphere and increases with height in the thermospher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highest temperatures for the atmosphere occur in the thermosphere, but it doesn’t feel hot because the atmosphere is so thin up there.</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tmospheric Density</a:t>
            </a:r>
            <a:endParaRPr b="0" lang="en-US" sz="44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nsity and pressure in the atmosphere decrease exponentially with heigh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pproximately 75% of the total atmosphere is in the tropospher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pproximately 99% of the atmosphere is the troposphere and stratosphere</a:t>
            </a:r>
            <a:endParaRPr b="0" lang="en-US" sz="3200" spc="-1" strike="noStrike">
              <a:solidFill>
                <a:srgbClr val="ffffff"/>
              </a:solidFill>
              <a:latin typeface="Verdan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Atmosphere</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atmosphere is the envelope of gases that surround our planet</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t is a very thin layer compared to the radius of the Earth</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e refer to this layer informally as “air”</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majority of the energy that drives the atmosphere is from the Su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atmosphere receives most of this energy from the surfac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mbalances of energy drive the winds.  Eventually, all energy degrades down to friction.</a:t>
            </a:r>
            <a:endParaRPr b="0" lang="en-US" sz="2400" spc="-1" strike="noStrike">
              <a:solidFill>
                <a:srgbClr val="ffffff"/>
              </a:solidFill>
              <a:latin typeface="Verdan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ate of the Atmosphere</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e commonly express the state of the atmosphere by measuring it using the following variables:</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essure</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emperature</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ind</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umidity</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oud cover</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ecipitation type and amount</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isibility (distance one can see horizontally)</a:t>
            </a:r>
            <a:endParaRPr b="0" lang="en-US" sz="2400" spc="-1" strike="noStrike">
              <a:solidFill>
                <a:srgbClr val="ffffff"/>
              </a:solidFill>
              <a:latin typeface="Verdana"/>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ypes of Measurements</a:t>
            </a:r>
            <a:endParaRPr b="0" lang="en-US" sz="4400" spc="-1" strike="noStrike">
              <a:solidFill>
                <a:srgbClr val="ccec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ntact Measurements – Also called in-situ measurements; A measurement that is conducted by sticking a probe into the medium being measured (thermometer).</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mote Sensing – A measurement conducted by remote means and not from directly within the medium being measured (satellites).</a:t>
            </a:r>
            <a:endParaRPr b="0" lang="en-US" sz="3200" spc="-1" strike="noStrike">
              <a:solidFill>
                <a:srgbClr val="ffffff"/>
              </a:solidFill>
              <a:latin typeface="Verdan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eather</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ather is the state of the atmosphere at a particular time and a particular plac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n example of weather information would be the temperature at Glen Ellyn today at 7 p.m.</a:t>
            </a:r>
            <a:endParaRPr b="0" lang="en-US" sz="3200" spc="-1" strike="noStrike">
              <a:solidFill>
                <a:srgbClr val="ffffff"/>
              </a:solidFill>
              <a:latin typeface="Verdana"/>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mate</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mate is the long-term state of the atmosphere at a particular loc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n be expressed as averages and extrem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r>
              <a:rPr b="0" lang="en-US" sz="2800" spc="-1" strike="noStrike">
                <a:solidFill>
                  <a:srgbClr val="ffffff"/>
                </a:solidFill>
                <a:latin typeface="Verdana"/>
              </a:rPr>
              <a:t>Normal” conditions is simply a 30-year average of that particular variable.</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amples of climate information would be:</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normal high at O’Hare on August 1 is 83 degre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record amount of precipitation at O’Hare on August 1 is 2.55 inches back in 1961.</a:t>
            </a:r>
            <a:endParaRPr b="0" lang="en-US" sz="2400" spc="-1" strike="noStrike">
              <a:solidFill>
                <a:srgbClr val="ffffff"/>
              </a:solidFill>
              <a:latin typeface="Verdana"/>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ore Definitions</a:t>
            </a:r>
            <a:endParaRPr b="0" lang="en-US" sz="4400" spc="-1" strike="noStrike">
              <a:solidFill>
                <a:srgbClr val="ccec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eteorology is the study of the Earth’s atmosphere, its motions and behavior</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matology is the study of the Earth’s climate, its past and futur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tmospheric Composition</a:t>
            </a: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ry air (neglecting water vapor) is composed of the following gases:</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Nitrogen (N</a:t>
            </a:r>
            <a:r>
              <a:rPr b="0" lang="en-US" sz="2800" spc="-1" strike="noStrike" baseline="-25000">
                <a:solidFill>
                  <a:srgbClr val="ffffff"/>
                </a:solidFill>
                <a:latin typeface="Verdana"/>
              </a:rPr>
              <a:t>2</a:t>
            </a:r>
            <a:r>
              <a:rPr b="0" lang="en-US" sz="2800" spc="-1" strike="noStrike">
                <a:solidFill>
                  <a:srgbClr val="ffffff"/>
                </a:solidFill>
                <a:latin typeface="Verdana"/>
              </a:rPr>
              <a:t>)</a:t>
            </a:r>
            <a:r>
              <a:rPr b="0" lang="en-US" sz="2800" spc="-1" strike="noStrike">
                <a:solidFill>
                  <a:srgbClr val="ffffff"/>
                </a:solidFill>
                <a:latin typeface="Verdana"/>
              </a:rPr>
              <a:t>	</a:t>
            </a:r>
            <a:r>
              <a:rPr b="0" lang="en-US" sz="2800" spc="-1" strike="noStrike">
                <a:solidFill>
                  <a:srgbClr val="ffffff"/>
                </a:solidFill>
                <a:latin typeface="Verdana"/>
              </a:rPr>
              <a:t>= 78%</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Oxygen (O</a:t>
            </a:r>
            <a:r>
              <a:rPr b="0" lang="en-US" sz="2800" spc="-1" strike="noStrike" baseline="-25000">
                <a:solidFill>
                  <a:srgbClr val="ffffff"/>
                </a:solidFill>
                <a:latin typeface="Verdana"/>
              </a:rPr>
              <a:t>2</a:t>
            </a:r>
            <a:r>
              <a:rPr b="0" lang="en-US" sz="2800" spc="-1" strike="noStrike">
                <a:solidFill>
                  <a:srgbClr val="ffffff"/>
                </a:solidFill>
                <a:latin typeface="Verdana"/>
              </a:rPr>
              <a:t>)</a:t>
            </a:r>
            <a:r>
              <a:rPr b="0" lang="en-US" sz="2800" spc="-1" strike="noStrike">
                <a:solidFill>
                  <a:srgbClr val="ffffff"/>
                </a:solidFill>
                <a:latin typeface="Verdana"/>
              </a:rPr>
              <a:t>	</a:t>
            </a:r>
            <a:r>
              <a:rPr b="0" lang="en-US" sz="2800" spc="-1" strike="noStrike">
                <a:solidFill>
                  <a:srgbClr val="ffffff"/>
                </a:solidFill>
                <a:latin typeface="Verdana"/>
              </a:rPr>
              <a:t>= 21%</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Argon (Ar)</a:t>
            </a:r>
            <a:r>
              <a:rPr b="0" lang="en-US" sz="2800" spc="-1" strike="noStrike">
                <a:solidFill>
                  <a:srgbClr val="ffffff"/>
                </a:solidFill>
                <a:latin typeface="Verdana"/>
              </a:rPr>
              <a:t>	</a:t>
            </a:r>
            <a:r>
              <a:rPr b="0" lang="en-US" sz="2800" spc="-1" strike="noStrike">
                <a:solidFill>
                  <a:srgbClr val="ffffff"/>
                </a:solidFill>
                <a:latin typeface="Verdana"/>
              </a:rPr>
              <a:t>=   1%</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Trace Gases</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ust, bacteria, and other particulates</a:t>
            </a:r>
            <a:endParaRPr b="0" lang="en-US" sz="2800" spc="-1" strike="noStrike">
              <a:solidFill>
                <a:srgbClr val="ffffff"/>
              </a:solidFill>
              <a:latin typeface="Verdana"/>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tmospheric Composition</a:t>
            </a:r>
            <a:endParaRPr b="0" lang="en-US" sz="44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race Gase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ases that are only found by examining a million or billion air molecule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amples include:</a:t>
            </a:r>
            <a:endParaRPr b="0" lang="en-US" sz="28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rbon Dioxide (CO</a:t>
            </a:r>
            <a:r>
              <a:rPr b="0" lang="en-US" sz="2400" spc="-1" strike="noStrike" baseline="-25000">
                <a:solidFill>
                  <a:srgbClr val="ffffff"/>
                </a:solidFill>
                <a:latin typeface="Verdana"/>
              </a:rPr>
              <a:t>2</a:t>
            </a:r>
            <a:r>
              <a:rPr b="0" lang="en-US" sz="2400" spc="-1" strike="noStrike">
                <a:solidFill>
                  <a:srgbClr val="ffffff"/>
                </a:solidFill>
                <a:latin typeface="Verdana"/>
              </a:rPr>
              <a:t>) = 340 ppmv</a:t>
            </a:r>
            <a:endParaRPr b="0" lang="en-US" sz="24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eon (Ne) = 18 ppmv</a:t>
            </a:r>
            <a:endParaRPr b="0" lang="en-US" sz="24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elium (He) = 5 ppmv</a:t>
            </a:r>
            <a:endParaRPr b="0" lang="en-US" sz="24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thane (CH</a:t>
            </a:r>
            <a:r>
              <a:rPr b="0" lang="en-US" sz="2400" spc="-1" strike="noStrike" baseline="-25000">
                <a:solidFill>
                  <a:srgbClr val="ffffff"/>
                </a:solidFill>
                <a:latin typeface="Verdana"/>
              </a:rPr>
              <a:t>4</a:t>
            </a:r>
            <a:r>
              <a:rPr b="0" lang="en-US" sz="2400" spc="-1" strike="noStrike">
                <a:solidFill>
                  <a:srgbClr val="ffffff"/>
                </a:solidFill>
                <a:latin typeface="Verdana"/>
              </a:rPr>
              <a:t>) = 2 ppmv</a:t>
            </a:r>
            <a:endParaRPr b="0" lang="en-US" sz="24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ydrogen (H</a:t>
            </a:r>
            <a:r>
              <a:rPr b="0" lang="en-US" sz="2400" spc="-1" strike="noStrike" baseline="-25000">
                <a:solidFill>
                  <a:srgbClr val="ffffff"/>
                </a:solidFill>
                <a:latin typeface="Verdana"/>
              </a:rPr>
              <a:t>2</a:t>
            </a:r>
            <a:r>
              <a:rPr b="0" lang="en-US" sz="2400" spc="-1" strike="noStrike">
                <a:solidFill>
                  <a:srgbClr val="ffffff"/>
                </a:solidFill>
                <a:latin typeface="Verdana"/>
              </a:rPr>
              <a:t>) = 0.5 ppmv</a:t>
            </a:r>
            <a:endParaRPr b="0" lang="en-US" sz="2400" spc="-1" strike="noStrike">
              <a:solidFill>
                <a:srgbClr val="ffffff"/>
              </a:solidFill>
              <a:latin typeface="Verdana"/>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1T22:07:40Z</dcterms:created>
  <dc:creator>Karl Schulze</dc:creator>
  <dc:description/>
  <dc:language>en-US</dc:language>
  <cp:lastModifiedBy>College of DuPage</cp:lastModifiedBy>
  <dcterms:modified xsi:type="dcterms:W3CDTF">2005-08-30T19:23:29Z</dcterms:modified>
  <cp:revision>5</cp:revision>
  <dc:subject/>
  <dc:title>Earth Science 1111</dc:title>
</cp:coreProperties>
</file>